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6AF-B384-4568-B7DF-71561D26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C5E-FBA4-4CFA-961B-38B5BBA6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659F3-E9C6-4DAB-A55E-9C217ED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4BDE-565F-414A-A327-48585BC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39D92-A36F-4DA3-BEB0-295E8B2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0994-CB9B-4EE7-87EB-8928253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85C7A-7E6D-42FB-B0BF-F6150CC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AD7D-456B-4379-A274-7CEE6C3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714F-21F5-4DB3-95C5-6CF9883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AE48-FE8D-4437-BDE4-0D2DA733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A5B3-FF7C-41D6-9CB3-AFBC520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796D-55FD-4BDF-9FD8-ADEEFE7E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68F-6EDB-41F9-B264-90495F23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C5768-85D1-4AB0-921F-2064A383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0683E-29FF-4108-8E6F-347D05F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269C6-2D52-43B5-B02C-33F84AA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6686C-E07B-403C-9FDC-445174D7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1D3F-4883-4752-9772-CEF69EE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826E1-F79F-484D-8FA0-4B459DB0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118CA-E576-4774-8B7A-B33BB22D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78C6D-6FB4-47D3-BAE6-DBC1DB6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574DD-4B0A-44AC-8C2F-641BFCA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EC975-83BD-4CDA-B244-CDC09F2C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54A-5F50-47C0-92D9-4501E287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0884-5E19-4F0C-90DA-29F5C4F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098FA-9403-4073-BAF9-F3E5A6E8A8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3A90E-5AB7-49E9-9239-E529964C627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999D-153B-4636-9E40-34E9015FD8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88C3E-CF3B-414A-8352-79ED0A5CFD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704B9-9934-4BF8-BFF9-390214DFE7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60C3E-2234-4828-AC58-CA3DBB3CC3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F9FD3-E51A-47A5-BB72-42FD42567F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2C7AF-DE6F-4C2D-8E3C-6AF4E7F226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537BB-7475-4EA2-80FC-E773C9310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CEDF-3D5C-4F53-B6AA-00CA81C0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14A9D-DA15-4A08-AF7D-6F9DA48113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2F5B0-2243-42F2-8600-3561F95FD5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CBBF1-26D6-4F9E-A9EF-AE19A11270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0E96B-00A8-4DE7-8671-74772047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90A623-D03D-4328-BB71-DF17BCE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576D0-CBD9-4208-A59F-2FA233B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23A5A7-5CFD-48C1-ACE0-25C6747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5D2AE-5FB7-4715-9785-CA200A6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77184B-B4F3-4A11-B481-A5AFE44C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F1B487-DB0E-485B-828A-2541216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525-76B8-42F4-9C4C-E2356F2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2F2324-FD3A-4D80-830F-A77FC13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B9B6C8-2639-4D7A-B04A-C805ADB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BA067-9640-42D7-A0C4-D4FB5551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1564CC-D260-4940-946F-CEEEAF74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5E0ABB-F042-4AB4-93FC-B0E7D214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10CC4C-CA30-4C2C-8C5D-01D9C3F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AAC0F-BC41-4FA0-B91E-486FAC8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A91483-B975-411C-AA9D-ACC10EB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E78D27-DF62-4997-83F2-D02B1FC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D066C5-DE38-40C0-A3DB-551FBBEA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C41-10A1-4390-A46D-399F66C0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9AF5CF-721F-4007-9A46-2A4A436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F330D2-FCEB-4EDC-81B6-33F770B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A7B23-6EFB-4D77-AF62-DA02F62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BFA339-06CF-4F14-A2CE-2F62D5E6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B6034D-835A-4ABF-8517-F50CA0A7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A1E3EB-9337-4956-A13A-94F01709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DA78A-6987-4678-8CAD-3DFDDA6E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7F38BA-6DB0-4BAA-B0AB-B7EA49B1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295AA2-7B64-4820-8996-C975DD5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B1C6D2-DF25-41D7-BD8C-57611F4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A5B-FEF3-468B-B852-E3679C7B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4CB011-2B94-43A2-8CAA-1836326E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86AA0C-6E7C-4291-8D57-9D777DA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832626-F1F0-4C63-AD7B-79EC871D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670000-F297-47DD-BC81-1795DE2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F34BA-150A-45A2-9E9F-CC700BA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B3DBF-CB8B-4D53-B4A0-90450E0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E22F83-90E0-4F32-B5D5-02D462F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9700CB-189C-4378-B88B-F61BE4D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DF38C4-37F9-420B-A195-F6E1DFDB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CFD3F5-A494-41F2-B4D4-698DB9B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483-3A9D-4D69-872B-B5209CA9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996A4C-FA7F-478A-A0BC-F1A3D9DB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68A8A6-9AF9-4350-950C-41DEA52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25C02C-4818-46D9-A80C-2384D50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43AD7F-D1D6-4FCA-B7CD-99EB8F3C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B551EE-92B8-4452-9731-888C600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560B1D-0B97-452C-B67C-735090C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252F6B-D4FB-455D-95C8-A8B1622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4C14E7-B852-4B86-A226-DEE2866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1CAC25-DCD7-4BF4-ADD6-CD9A1ACF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EBE032-9C7D-4F95-8048-0655BE36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22C-0622-4304-8544-F5DBD1E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4DCEC2-93AF-4AE6-B7C5-91FEE976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19B827-72BA-4D0D-90A0-DDA447D8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D335A4-88D0-413E-AC72-9518117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1BE4F0-E7D4-4DE2-BDE2-587EAE4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FB953E-D460-4458-A9D0-EEA6E0DE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A080F8-890E-4C1C-81EA-D57AE0C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15F424-0BE8-4F70-8BBE-568855C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05329-B43C-45FC-8074-0EA5699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1CD407-A151-42BC-B40D-E591246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D16EC0-D066-41D2-9DA2-4375DF4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B875-4F4F-4ED1-95E7-AD8F8F3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733FF9-8B11-4FC6-96EE-5AFE46D9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2D5CB5-9408-47A6-8456-9AB24453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197C71-D54C-489C-A166-4B4DCE8C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D9545-FF92-4DE1-8045-1A18900F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0FAF2-B218-4CDF-8144-C6BDBFB1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3F105-7373-4AD0-A9DE-19A01FF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E6001-B463-4B03-89C8-0AF05F6E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CAC05-0A1D-4E4E-9B7E-CB3A7AA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28065-493E-493F-AA10-54ACB629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F5717-0109-4782-BEA6-344FE68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F67-9223-4844-B238-090CE71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DF3E-6A3A-4E5D-8987-AED7848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8BCF7-E44A-474A-9D7C-DB23482C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3E44C-BC9F-4600-B359-524C24B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74F6F-5556-4DED-852D-FA3FFCE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D6D7D-0F93-4DB8-8C7F-DED16380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80D39-D12B-4AD8-ACB4-3AAC1A2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3B198-3EC0-4AFA-B26D-489EFED5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51DC9-7929-4F4C-AD4B-F4E736E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4BC43-CA0C-4DA8-96C1-479E2A8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31193-B81F-48E8-8324-6A972F9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DC06B-8DA7-426B-AE0A-F56FD31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4B06-407C-4629-8E25-8D43AE0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E059C-3143-46E4-A46C-043293E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B9EDF-D5F0-40A2-84B0-98E7C7F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29B37-0A5B-465B-B6D9-B2C2DEF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00779-7BA3-45DC-8D08-AE1B45B2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9B99F-47CA-4645-8F76-8CADF25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2AC6A-A3C4-49A7-A0F8-C6896E60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CA177-AD1A-4FCE-A11C-9C137D0C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91C4-DE57-49F8-BA02-7A6E0DE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13E3-6CAA-4BF8-9A19-C8FD9A9C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90C-135C-4DB9-BB51-9FD620B2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F353-D792-4E51-AD3C-5CB8F84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8B1F-ED94-48D3-936A-E578A36A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DCA4-DFBB-4B15-B653-F76B8FD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F6D4-E993-4243-985A-B707E3B7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9E15-3DB4-4801-B825-B41EFF8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C7E-53AA-4B64-AD0C-F21AC3C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24A3-027D-43B2-AE08-A3AA99A2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D644-2E9C-4A65-B4AD-AA04A9D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6C80-B849-48F2-A68E-CE3ED70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50A1-20C1-481B-9502-6B06C7B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D00B-CFAC-4004-96C2-39D7BD4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2F35-2607-40D6-9762-51E4499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D9CD-625E-4C75-8767-44A0B3DC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433-D3BB-4454-A0F2-8FD1ACB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2E78-A97A-46A6-953F-148C879A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16E-B0CC-407D-AEC0-4891F87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1ABE-6B89-43DC-84B1-433DABC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100E-03F4-4604-AEFD-2DB5942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4B1F-6A09-4D05-B9B0-3D61E814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BA4C-AD7F-4528-AA20-A071514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FE01-F7FB-41A0-B52F-E2D0F22A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4A78-989A-42BF-A3BA-D4B778C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3208-8261-4B46-9037-CF264D6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BAA3-7160-4501-AE34-C9B54B1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CED7-1057-487B-9D9B-DCA922E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A24B-0C40-4879-986E-C216506E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170-2246-4A56-BE89-6BF770D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9EC9-B9E0-4523-B46C-1EC54199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FDCD-39FE-4428-88C7-C14958A5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D21C-A065-47C9-B054-2B6C6EA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DE2B-941C-4DAC-A688-85DD079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3EF19-65BC-4755-9CA9-DD098ADC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B6F7-288D-484A-A060-5FCF80B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E200-B3FA-44F6-A9C1-26AAD8D6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4848-6DFF-4636-9E83-E1D4F39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004F-D2EF-493F-9C76-9CF62E1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B58B-32AA-418E-85D1-1A9E23D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D97-98D2-4ADF-A72F-A98876E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590A1-EB41-4E04-AB71-F48A4958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C710-6CD7-490F-BC89-84B84F47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B6A9E-D85C-4F1E-9F22-B128C0A8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1446-2967-4377-8419-69295D0B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D851-C7D8-4CB6-97E1-2986E59E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778A-C411-468B-BC25-D83AD1B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5E10-2E15-4D18-9C3E-1B6AAB9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FEF6-F177-4A5A-B346-18E41B7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C3AA-B556-4BBF-B102-A45CA9C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C8DF9-219F-4034-A990-1392050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979-22DA-43E2-BD31-D917753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B952A-651D-4397-93A7-04D675C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4F55-9B81-4C0B-B26F-D3F1546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5799-748E-4634-99E0-6593AF9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14D09-54EE-4F2A-84C0-B7280069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A2A80-FA1E-42AE-BB7D-4464EB3B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6A17-0965-49C2-B123-D18CDB85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3AC5-09E8-437D-AB53-24A879C1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E6FF-ACBD-4FE3-8A4F-C5B6204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C0AE-C85B-41A6-A575-73091FA0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25E7D-82AA-4A73-81E9-383FA3C6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1CE-4DD9-4126-8955-818039F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8E6C5-7BEF-4AB4-A9A1-170D5DF7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BDE5-9AA5-4F0C-9BBD-88BC3BD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537D-02B6-48F8-AB06-281BA86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A49BA-DDC8-4921-91F7-D4BD2FF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83A5-C4BF-4DE8-92EE-3A115C6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3FC6-F59D-4468-9CB0-8DC8F78C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1B4FC-3B27-41F7-81D5-44E1F34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8C97-7596-40F0-8F88-9B7770F8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126BD-EBF5-4A45-ACCB-B82E1E6C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24EA2-3471-42C8-8C9C-E28F8DB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 Stedendriehoek 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3F0D9-AEFB-4052-8FAB-27396E6CA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06585-B81F-4C33-89DD-4423E76FF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dt" idx="28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BA8EE-401A-43D1-B51D-2E3673FEA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7F003-9761-460E-8F13-FBE25BEF6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dt" idx="33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773C6-51A7-4B63-8F08-C2A8FFA25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dt" idx="36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A3E0B-57B5-48E2-A930-78EDE694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dt" idx="39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2AA00-84F4-4CD7-A0B4-0CC249915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42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D7066-8BE9-4FBD-BA27-14040979B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45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6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erkgroep Dienstverlening VGS                                 11 juni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7CCBC-66E1-40DC-9D4D-126C029EE02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49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C05F8-E9E3-4FC6-98E7-91881602B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VGS-kring Utrecht-Oost, 19-08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BCF24-4E15-42E9-B00B-3DA2FEB2F903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ijdelijke aanduiding voor datum 2"/>
          <p:cNvSpPr/>
          <p:nvPr/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GS-kring Stedendriehoek ,1 ok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VGS-kring Utrecht-Oost, 19-08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B6DBD-86BE-4F79-AEDF-418AB0526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3094.1010_KING_Tite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227160" y="5923080"/>
            <a:ext cx="57909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4FFED-46BC-40E0-BD58-A3B05871B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5D1D9-1FE2-43D2-B272-B5F55BCAB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203A4-031C-4F5E-9695-DB8ACE34B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dt" idx="19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4090F-E7AE-4BF2-81E3-B1FF3D3FD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dt" idx="22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49A59-F562-4AAC-A0C7-EA29AD3FA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25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edkeuringsproces koppelvla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898989"/>
                </a:solidFill>
                <a:latin typeface="Verdana"/>
              </a:rPr>
              <a:t>Regiegroep 5 december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proces expert groe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84000" y="167796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Publieke consultatie 3 weken voorafgaand aan expertgroepe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geen bezwaren 1 week voor de expertgroep, automatisch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wel bezwaren behandeling in expert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proces regiegro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goedkeuring door beide expertgroepen randvoorwaardelij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Publieke consultatie beheerplan 3 weken voor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1 week voor regiegroep geen bezwaren, automatisch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wel bezwaar behandeling in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Welke koppelvlakken komen er aa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Wat is een koppelvla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houdelijk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rmel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oetsingsproce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lke koppelvlakken komen er a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d0c8b"/>
                </a:solidFill>
                <a:latin typeface="Verdana"/>
              </a:rPr>
              <a:t>Op korte termijn:</a:t>
            </a: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grade BAG-GB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cument management en de aansluiting op zaakgericht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d0c8b"/>
                </a:solidFill>
                <a:latin typeface="Verdana"/>
              </a:rPr>
              <a:t>Op iets langere termijn:</a:t>
            </a: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orinvullen e-formulier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evoering Werk Inkomen Zorg koppelen aan Midoff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entralisatie Jeugdzor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onder voorbehou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tsluiten Omgevingsloket Online naar  midoff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es/informatieketen  WABO-BAG-GBA-WO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meenschappelijke diensten voor betalen en invorder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anmaken documenten waarbij gegevens automatisch worden gevu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akgericht werken bij toezicht en handha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rugmeldingen op Basisregistra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orinvullen adresgegevens en GEO-locatie m.b.v. de B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Genoemde koppelvlakken zijn binnengemeentelij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eheer ligt bij K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Koppelvlakken komen als standaard in de softwarecatalogu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ij de koppelvlakken wordt een testset voor StUF-testplatform ontwikkeld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Ontwikkeling vind plaats met groep leveranciers en gemeente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ehoefte aan breed draagvlak: goedkeuring door expert,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6E22C-93B4-4704-9ADE-B9E0DCCC2C0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 is een koppelv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1724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Beschreven in proces en documenteisen operatie NUP, 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oppelvlakken bestaan uit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, trigger en processchakel (business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eminteracties en koppelvlak (ICT-technisch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e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UF) ber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D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ING E-Diensten levert beheerpla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oudelijke goedke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04640" y="15001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oppelvlakken bestaan uit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, trigger en processchakel (business perspectief)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eminteracties en koppelvlak (ICT-technisch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emodel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expertgroep informatiemodell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UF) berichten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expertgroep StU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D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ING E-Diensten levert beheerplan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regiegroe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82480" y="15001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Expertgroep informatiemodelle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Juist hergebruik bestaand informatiemod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ij aanpassing of nieuw informatiemod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uiste toepassing metamod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cte beschrijving element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uist hergebruik uit bestaande mode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anwezigheid verantwoording modelleerbeslissing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ementatie onafhankelijkhe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D85D8-4EAE-421F-B15F-B0ADDA95D32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Expertgroep StUF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Duidelijkheid over de plek in de familiestructuur Organisatorische en functionele werkingsgebied moet duidelijk zij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de regels van de StUF-onderlaag (o.a. validerende schema’s)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de StUF-specificatie voor protocolbinding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Een structuurplaatje opbouw schema’s (documentatieverplichting)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Contactgegevens beheerder van berichtcatalogus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naamgeving- en versienummering conventies en andere eisen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(namespace conventies) die aan een sectormodel worden gesteld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Optimaal hergebruik bestaande StUF-onderdel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Geen conflicten met andere StUF-onderdel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8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7F8D0-81C4-4523-BC72-8982C98AA20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7448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Regiegroep toetst beheerplan, analoog aan familiecriteria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1. Beheercontinuiteit &gt;= 3 ja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2. Duidelijkheid afhankelijkheid met ande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F onderdelen (bijv. een configuratieplaat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3. Release beleid incl. releasefrequentie en aansluit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 afhankelijke familiele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4. Heldere besluitvorming- en participatiestruct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5. Vaste vertegenwoordiger beheerorganisatie in regiegro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6. Specificaties publiekelijk toegankeli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7. Beschreven beheermodel op basis van StUF beheer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8. Inzicht in (voorgenomen) implementa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1:22:51Z</dcterms:created>
  <dc:creator>user</dc:creator>
  <dc:description/>
  <dc:language>en-US</dc:language>
  <cp:lastModifiedBy>Frank Terpstra</cp:lastModifiedBy>
  <dcterms:modified xsi:type="dcterms:W3CDTF">2012-12-05T06:28:49Z</dcterms:modified>
  <cp:revision>493</cp:revision>
  <dc:subject/>
  <dc:title>Slide 1</dc:title>
</cp:coreProperties>
</file>